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24e"/>
                </a:solidFill>
                <a:latin typeface="Trebuchet MS"/>
              </a:rPr>
              <a:t>Click to move the slide</a:t>
            </a: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52A4-FFAE-4D6C-86B2-3336B8F9D0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8F0D-7AB4-4F63-833E-FB321755C4E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DFB-DB6E-4341-8598-176456CC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39C-F5A2-4585-877B-A668E6B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86A-854C-4CCD-BE9F-69DC2BF3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06F-A1A2-464C-8DD7-C896DA70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68B-B7DD-475D-9043-65960A7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6EE-7369-4FCD-B322-9352B74F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6A0-08B5-4F9A-9282-243773F8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9C2-CC30-4DE8-878B-10F7173E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9EF-FB4D-4170-869A-ED267B58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0A6-2BDB-4F5D-837C-09CC75F6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8BC-37C0-4DFA-96BF-C3070A08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587-A98F-4ACB-9E9F-1ABB45B1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fondo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24e"/>
                </a:solidFill>
                <a:latin typeface="Trebuchet MS"/>
              </a:rPr>
              <a:t>Click to edit the title text format</a:t>
            </a: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1" marL="743040" indent="-285840">
              <a:buClr>
                <a:srgbClr val="fb7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2" marL="1143000" indent="-228600">
              <a:buClr>
                <a:srgbClr val="fb7b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3" marL="1600200" indent="-228600">
              <a:buClr>
                <a:srgbClr val="fb7b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4" marL="2057400" indent="-228600">
              <a:buClr>
                <a:srgbClr val="fb7b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5" marL="2057400" indent="-228600"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6" marL="2057400" indent="-228600"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75640" y="6048000"/>
            <a:ext cx="50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D155-C287-4C2E-9B13-66B84A56D2A7}" type="slidenum">
              <a:rPr b="1" lang="en-US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411280" y="6438960"/>
            <a:ext cx="457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arch. Gilberto A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28440" y="6453360"/>
            <a:ext cx="2016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Provincia di A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7135920" y="6453360"/>
            <a:ext cx="20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Progetto SOF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provincia asti"/>
          <p:cNvPicPr/>
          <p:nvPr/>
        </p:nvPicPr>
        <p:blipFill>
          <a:blip r:embed="rId3"/>
          <a:stretch/>
        </p:blipFill>
        <p:spPr>
          <a:xfrm>
            <a:off x="181080" y="6400800"/>
            <a:ext cx="214200" cy="312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logo sofis"/>
          <p:cNvPicPr/>
          <p:nvPr/>
        </p:nvPicPr>
        <p:blipFill>
          <a:blip r:embed="rId4"/>
          <a:stretch/>
        </p:blipFill>
        <p:spPr>
          <a:xfrm>
            <a:off x="7192800" y="6410160"/>
            <a:ext cx="28764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250920" y="1197000"/>
            <a:ext cx="8642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IL PROCEDIMENTO SEMPL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DI AUTORIZZAZIONE PAESAGG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PER GLI INTERVENTI DI LIEVE ENT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(D.P.R. 9 luglio 2010 n. 139, G.U. n. 199 26 agosto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Regolamento a norma dell'articolo 146 comma 9 D.Lgs. 42/2004 (Codice B.C.A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2411280" y="6357960"/>
            <a:ext cx="457200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Asti, 24 sett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28520" y="6396120"/>
            <a:ext cx="201636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ovincia di A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6948360" y="6424560"/>
            <a:ext cx="201636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ogetto SOF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340000" y="4869000"/>
            <a:ext cx="4608360" cy="8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arch. Gilberto 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Trebuchet MS"/>
              </a:rPr>
              <a:t>Responsabile Area Urbanistica – Edilizia –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Trebuchet MS"/>
              </a:rPr>
              <a:t>Comune di Buttigliera Alta -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3419640" y="476280"/>
            <a:ext cx="2016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rebuchet MS"/>
              </a:rPr>
              <a:t>Sem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logo sofis"/>
          <p:cNvPicPr/>
          <p:nvPr/>
        </p:nvPicPr>
        <p:blipFill>
          <a:blip r:embed="rId1"/>
          <a:stretch/>
        </p:blipFill>
        <p:spPr>
          <a:xfrm>
            <a:off x="7682040" y="5978520"/>
            <a:ext cx="419040" cy="399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logo_provincia asti"/>
          <p:cNvPicPr/>
          <p:nvPr/>
        </p:nvPicPr>
        <p:blipFill>
          <a:blip r:embed="rId2"/>
          <a:stretch/>
        </p:blipFill>
        <p:spPr>
          <a:xfrm>
            <a:off x="900000" y="5950080"/>
            <a:ext cx="3114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447840" y="909720"/>
            <a:ext cx="81565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3.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verifica la conformità 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dell'intervento progettato alla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 disciplina urbanistica ed edili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la Regione verifica l'attestazione di conformità urbanistica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rilasciata dal Comune 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l'asseverazione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prescritta in caso di intervento sottoposto a D.I.A., già presentate all'atto della domand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4.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in caso di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non conformità 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dell'intervento progettat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alla disciplina urbanistica ed edilizia, adotta il provvedimento negativo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di conclusione anticipata del procedimento (art. 3 c. 2) e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dichiara l'improcedibilità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della  domanda di autorizzazione paesaggistica, dandone immediata comunicazione al richi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5.3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47840" y="1341360"/>
            <a:ext cx="81565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3)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5.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esito positivo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ella verifica di conformità urbanistica  ed edilizia,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 valuta la conformità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ell'intervento all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pecifiche  prescrizioni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'uso contenute nel piano paesaggistico o nella dichiarazione di pubblico interesse o nel provvedimento di   integrazione del vincolo, ovvero la su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mpatibilità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con i valori paesaggis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6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324000" y="1341360"/>
            <a:ext cx="849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3 c. 2 L.R. 32/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6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il rilascio dell'autorizzazione paesaggistica è delegato ai comuni, che si avvalgono, per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 la valutazione delle istanz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delle competenze tecnico scientifiche dell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mmissioni Locali per il Paesaggio (C.L.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nel procedimento semplifica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non e' obbligatorio il parere delle C.L.P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alvo quanto sia diversamente previsto da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legislazione regional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fermo restando il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spetto del suddetto termi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per la  conclusione del procedimento di cui all'art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7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24000" y="1125360"/>
            <a:ext cx="842472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7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nel caso in cui la suddett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valutazione sia negativa, invia comunicaz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all'interessato ai sensi dell'art. 10-bis L. 241/1990, assegnando un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termine di 10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dal ricevimento della stessa, per  la presentazione di eventuali osserv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a comunicazion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ospend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il termine per la conclusione del  proced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ove, esaminate le osservazioni, persistano i motivi ostativi   all'accoglimento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getta motivatamente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a domanda entro i successiv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10 gio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8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1197000"/>
            <a:ext cx="87138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relazione ai suddetti disposti, occorre ch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la valutazione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(parere) de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.L.P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sia di t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•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favorev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•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favorevole condizio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•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parrebbe che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non possa essere di tipo sospensivo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, in quanto ai sensi art. 4 c.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- occorre richiedere, ove occorrano, un'unica volta, i documenti e i chiarimenti indispensabili entro il termine di 15 giorni dal ricevimento della 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- il procedimento resta sospeso fino alla ricezione della documentazione integrativa 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9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447840" y="1341360"/>
            <a:ext cx="815652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8.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gett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a domanda, l'interessato, entro 20 giorni dalla ricezione del provvedimento di rigetto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uò chiedere al soprintende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con istanza motivata e corredata della documentazione, di pronunciarsi sulla domanda di autorizzazione paesaggistica semplifi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copia dell'istanza e' contestualmente inviata all'amministrazione che ha adottato il provvedimento negativo, la quale, entro 10 giorni dal ricevimento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uò inviar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le proprie deduzioni al soprintendent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0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447840" y="1341360"/>
            <a:ext cx="837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Ricevuta l'istanza, il soprintendente, entro i successivi 30 giorni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verifica la conformità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'intervento progettato alle prescrizioni d'uso del bene paesaggistico ovvero la su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mpatibilità paesaggistic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e decide in via definitiva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lasciando o negand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l'autor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Copia del provvedimento e' inviata all'amministrazione che si è pronunciata in senso neg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0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447840" y="1341360"/>
            <a:ext cx="8156520" cy="40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9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. 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valutazione positiv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a conformità ovvero de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mpatibilità paesaggistic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'intervento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rovvede immediatame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e, comunque, entro il termine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30 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al ricevimento della domand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 trasmetter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alla soprintendenza, unitamente alla domanda ed alla documentazione in suo possesso, un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motivata proposta di accogliment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a domanda st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1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1880" y="5213520"/>
            <a:ext cx="389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447840" y="1341360"/>
            <a:ext cx="8227800" cy="48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e anche la valutazione del soprintendente e' positiva, quest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esprime il suo parere vincolante favorevol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entro il termine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25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alla ricezione della domanda, della documentazione e della proposta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dandone immediata comunicaz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ove possibile per via telematica, all'amministrazione competente al rilascio dell'autor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mancata espressione del parere vincolante entro il suddetto termi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l'amministrazione competent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ne prescinde e rilascia l'autorizzaz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senza indire la Conferenza di servizi di cui all'art. 146 c. 9 del Co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1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47840" y="1227240"/>
            <a:ext cx="815652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dott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il provvedimen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nforme al parere vincolante favorevol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 ne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5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successivi alla ricezione del parere stesso e n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da' immediata comunicaz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al richiedente ed alla soprintenden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Ove ne abbia la competenza, l'amministrazion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lascia contestualme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e prescritto e ove possibil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anch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il titolo legittima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le trasformazioni urbanistiche ed edilizie previste nel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'obbligo di motivazione e' assolto anche mediant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nvio ed allegaz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 parere della soprintenden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447840" y="1341360"/>
            <a:ext cx="815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1 c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ono assoggettati 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rocedimento semplificato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i autorizzazione paesaggistica gl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interventi di lieve entità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da realizzarsi su aree o immobili sottoposti alle norme di tutela della parte III del Codice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empre che comportino un'alterazione dei luoghi o dell'aspetto esteriore degli edific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indicati nell'elenco di cui all'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llegato 1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447840" y="1227240"/>
            <a:ext cx="815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valutazione negativ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a proposta ricevuta dall'amministrazione competente al rilascio dell'autorizzazione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il soprintendente adott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entr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25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al ricevimento della proposta stessa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il provvedimento di rigett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'istanza, previa comunicazione all'interessato dei motivi che ostano all'accogl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3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447840" y="1227240"/>
            <a:ext cx="8156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Nel provvedimento il soprintendente espone puntualmente i motivi di rigetto dell'istanza e di non accoglibilità delle osservazioni eventualmente presentate dall'interess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l provvedimento di rigetto e' immediatamente comunicato all'amministrazione competente ed all'interess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arere obbligatorio e non vincola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 soprintendente, ai sensi del comma 10, il provvedimento di riget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e' adottat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 dall'amministrazione competente al rilascio dell'autorizz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3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468360" y="1341360"/>
            <a:ext cx="8156520" cy="48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l parere del soprintendent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è obbligatorio e non vincola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quand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l'area interessata dall'intervento di lieve entità sia assoggettata a specifiche prescrizioni d'uso del paesaggi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contenute nella dichiarazione di notevole interesse pubblico, nel piano paesaggistico o negli atti di integrazione del vincolo adottati ai sensi dell'articolo 141-bis del Co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Il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P.P.R.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con indirizzi, direttive in caso di varianti e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prescrizioni “in salvaguardia”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(</a:t>
            </a:r>
            <a:r>
              <a:rPr b="1" i="1" lang="en-US" sz="1800" spc="-1" strike="noStrike">
                <a:solidFill>
                  <a:srgbClr val="003366"/>
                </a:solidFill>
                <a:latin typeface="Trebuchet MS"/>
              </a:rPr>
              <a:t>adozione</a:t>
            </a:r>
            <a:r>
              <a:rPr b="0" i="1" lang="en-US" sz="1800" spc="-1" strike="noStrike">
                <a:solidFill>
                  <a:srgbClr val="003366"/>
                </a:solidFill>
                <a:latin typeface="Trebuchet MS"/>
              </a:rPr>
              <a:t> D.G.R. 04.08.2009 n. 53-11975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), al moment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non produce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gli effetti per le finalità del suddetto co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4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447840" y="1227240"/>
            <a:ext cx="815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Decorsi inutilme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i termini di cui all'art.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60 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per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nclus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 procedimento autorizzatorio semplificato con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un provvedimento espr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30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per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ccertamenti e valutazioni istruttori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con adozione del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rovvedimento negativo di conclusione anticipat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 procedimento di cui all'art. 4 c. 2 (in caso di non conformità dell'intervento progettato alla disciplina urbanistica ed ediliz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5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324000" y="1227240"/>
            <a:ext cx="84247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enza che l'amministrazione competente al rilascio dell'autorizzazione o la soprintendenz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bbia comunicato la propria determinazione conclusiv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sull'istanza presentata, si applicano gli artt. 2 c. 8 e 2-bis L. 241/1990, in materia di conclusione del procedimento e conseguenze per il ritardo dell’amministr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rebuchet MS"/>
              </a:rPr>
              <a:t>(art. 2 c.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decorsi i termini per la conclusione del procedimento, il ricorso avverso il silenzio dell’amministrazione, può essere proposto anche senza necessità di diffida all’amministrazione inadempiente, fintanto che perdura l’inadempimento e comunque non oltre un anno dalla scadenza dei termini. Il giudice amministrativo può conoscere della fondatezza dell’i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5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447840" y="1052640"/>
            <a:ext cx="815652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rebuchet MS"/>
              </a:rPr>
              <a:t>(art. 2-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le pubbliche amministrazioni sono tenuti al risarcimento del danno ingiusto cagionato in conseguenza dell’inosservanza dolosa o colposa del termine di conclusione del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le controversie relative all’applicazione del presente articolo sono attribuite alla giurisdizione esclusiva del giudice amministrativo. Il diritto al risarcimento del danno si prescrive in cinque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Inolt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rebuchet MS"/>
              </a:rPr>
              <a:t>(art. 2 c.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la mancata emanazione del provvedimento nei termini costituisce elemento di valutazione della responsabilità dirig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5.3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1563840"/>
            <a:ext cx="85690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'autorizzazione paesaggistica semplificat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e' immediatamente efficace ed e' valida 5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6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468360" y="1341360"/>
            <a:ext cx="815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2 cc. 1 e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'istanza e' corredata da un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elazione paesaggistica semplificat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che costituisce per l'amministrazione competente la base di riferimento essenziale per le valutazioni preordinate a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verifica della compatibilità paesaggistic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redatta secondo il modell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ched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precompilata, con foto modellazione manuale, di cui al D.P.C.M. 12.12.2005, da un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tecnico abili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2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447840" y="1341360"/>
            <a:ext cx="815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Ne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ched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ono indicate le fonti normative o provvedimentali della disciplina  paesaggis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è descritto lo stato attuale dell'area interessata dall'inter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è attestata la conformità del progetto alle specifiche prescrizioni d'uso dei beni paesaggistici, se esistenti,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ovvero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 documentata la compatibilità con i valori paesaggisti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ono indicate le eventuali misure di inserimento paesaggistico previste (in scheda: “mitigazione dell’impatto dell’intervento”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2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468360" y="1341360"/>
            <a:ext cx="8156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l tecnico abilita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ttesta altresì la conformità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el progetto a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disciplina urbanistica ed edilizi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addove l'autorità preposta al rilascio dell'autorizzazione paesaggistica non coincida con quella competente in materia urbanistica ed edilizia (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interventi in capo alla Reg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ai sensi L.R. 32/2008 art. 3 c. 1), l'istanza e' corredata dall'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ttestazione del comu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territorialmente competent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di conformità dell'intervento alle prescrizioni urbanistiche ed edilizi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o, in caso di intervento soggetto a D.I.A., dall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sseverazio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i cui all'articolo 23 T.U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2.3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4200" y="1992240"/>
            <a:ext cx="389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0056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1160" y="1989000"/>
            <a:ext cx="436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66240" y="1989000"/>
            <a:ext cx="436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447840" y="1341360"/>
            <a:ext cx="815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2 c.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a presentazione della domanda di autorizzazione e la trasmissione dei documenti a corredo e' effettuata, ove possibile, in via telematica. Ove l'istanza paesaggistica sia riferita ad interventi per i quali si applicano i procedimenti di cui all'art. 38 c. 3 L. 133/2008 (“impresa in un giorno”), la presentazione della domanda e della relativa documentazione avviene per il tramite dell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portello unico per le attività produttiv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se istituito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3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447840" y="1341360"/>
            <a:ext cx="815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3 c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l procedimento autorizzatorio semplifica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i conclud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con un provvedimento espresso entro il termine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60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al ricevimento della do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4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1052640"/>
            <a:ext cx="84978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(art. 3 c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L'amministrazione competente al rilascio dell'autorizzazione, entr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30 giorni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dal ricevimento della domanda, corredata della documentazione prescritta:</a:t>
            </a:r>
            <a:r>
              <a:rPr b="0" lang="en-US" sz="16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- Effettua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gli accertamenti e le valutazioni istruttor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rebuchet MS"/>
              </a:rPr>
              <a:t>(art. 4 c. 1)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verifica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se l'intervento progettat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non sia esonerato 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dall'autorizzazione  paesaggistica, ai sensi dell'art. 149 del Codice, oppure se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sia assoggettato al regime ordinario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, di cui all'articolo 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in tali casi, rispettivamente,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comunica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al richiedente che l'intervento non e' soggetto ad autorizzazione 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richiede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le necessarie integrazioni ai fini del rilascio dell'autorizzazione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23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5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24000" y="1341360"/>
            <a:ext cx="8496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2.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ove l'intervento richies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ia assoggettato ad autorizzazione semplificata, comunic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all'interessato l'avvio del procedimento 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chied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ove occorrano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un'unica volt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i documenti e i chiarimenti indispensabili, ch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ono presentat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o inviati in via telematica entro il termine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15 giorni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al ricevimento della richi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l procedimento rest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ospes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fino alla ricezione della documentazione  integrativa richi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ecorso inutilmente il suddetto termine, l'amministrazion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nclud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comunque il proce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5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63320" y="5516640"/>
            <a:ext cx="457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13:17Z</dcterms:created>
  <dc:creator>d6002</dc:creator>
  <dc:description/>
  <dc:language>en-US</dc:language>
  <cp:lastModifiedBy>buttigliera</cp:lastModifiedBy>
  <dcterms:modified xsi:type="dcterms:W3CDTF">2010-09-22T12:56:05Z</dcterms:modified>
  <cp:revision>237</cp:revision>
  <dc:subject/>
  <dc:title>Diapositiva 1</dc:title>
</cp:coreProperties>
</file>